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F61-59CC-4D23-9C3E-1C1DFE87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4DC-C2B4-4037-8005-4EB3238F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A3A-8938-43D2-A4BC-2A1BA3EA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240-0ED9-407B-B4DB-CF344667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6E9-5F07-46EA-AE97-5395A6F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79F-807D-4489-9402-8D8BD51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832-1548-41D5-878B-E96446E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52A-07F8-45C7-BC12-81095A07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D80-9348-42C7-A280-86ACCB8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C4E-CC3E-4A49-9865-B6917C23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59A-A40B-436B-812F-74223D3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ED2-51F2-4C28-9863-39219316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6FF0-B4DF-4A4B-83EB-328560FA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report is a document prepared after completing a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report is a complete description about a study on a topic of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 explains support and non support of hypothesis. Moreover this section also identify possibilities for practical and theoretical implications of results of study on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 reports the practicable changes suggested by researcher for the improvement of system (in the light of results of stud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ces are such entries that are necessary to understand the research report like as questionnaire, test, list of sample, letters etc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ppendix should have a ti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necessary appendix should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 for writing of research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report in past tense but In chapter four, interpretation of tables can be reported in present t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assive vo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word researcher is not allowed t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rrec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ersonnel nouns ( I, we, he, she, they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honest to report every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of binding should be used as directed by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lank ink and white paper for 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aper of A4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and minimum length of thesis should be as according to direction by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ng size and typing format should be as according to research manual of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hesis and revie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t least three research papers on any topic of your interest and write a brief report (one pa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report of a 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report of a thesis includes three s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body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ction should necessarily include following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figures( 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body of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rt is heart of research report of a 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urther divided in to five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:1( int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:2( Review of Related Lit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:3 ( Method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:4 (Data Analysis and Interpre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:5 ( Summary, Findings, Conclusion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Discussion and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 , 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: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:1 includes following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(no he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mitations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of study( brief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Key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: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includes review of related literature abou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literature includes report of all studies completed on topic and  were studied by resear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related literature should explain, what work has been done previously on topic by previous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: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hapter describes detailed procedure adopted by researcher to complete the  study. Following topics are included in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ol and its developmen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si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: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alysis and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describes results of study and their interpretation in tables and figures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: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, Findings, Conclusions, Discussion and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brief abstract of stu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ults of study in statistical form. Findings are based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 of respondents( 89% agreed that computers are used in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scribe results of study in descriptive form. These are generalizations of findings on population. Example: Computers are used in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0:34:52Z</dcterms:created>
  <dc:creator>GBS</dc:creator>
  <dc:description/>
  <dc:language>en-US</dc:language>
  <cp:lastModifiedBy>RIMSA TAHIR</cp:lastModifiedBy>
  <dcterms:modified xsi:type="dcterms:W3CDTF">2020-04-01T13:47:11Z</dcterms:modified>
  <cp:revision>155</cp:revision>
  <dc:subject/>
  <dc:title>Report writing </dc:title>
</cp:coreProperties>
</file>